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012D-0E31-48FF-AF0C-D01F19504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6B3A-66CC-45D8-BC0B-12CFBF2E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DBD2-B7DA-45AD-860B-D54ADC597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9074-A55A-456E-BF17-971E84ADA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9603-A119-4B74-A651-EFC0DED62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D7E7-2505-4FD2-A932-02D292BAF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D783-0C32-4B48-9354-C357CCAEC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EAC4-424F-4B1E-B599-2BF03B64C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3E34-98AB-4BCE-A50C-409926C84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4CDD-A98A-4311-9EDA-63201E9D8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BADF-DDEE-43C5-BA26-0B9E36A1A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66DA-C223-46F0-89DA-D9522B749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00440"/>
            <a:ext cx="3962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DF4-BF7A-4C0D-96F3-8D99B119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6 (University at Buffa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mination of Ontology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bian Neu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t-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Ceu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irector of Biomedical Informatics, UB Health Science Facul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4F63-72E2-49C0-9607-08EBDFFB69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vel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i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nic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c scienc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omedical termi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0829-74E8-4E51-8D13-6FF48DFFE9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C102-6DAB-424B-813A-736DCFC33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portion of reality that forms the subject-matter of a single science or technology or mode of stu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ral infections in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F507-E563-48C3-B44B-FFCD3F9E0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65AE-6682-465A-9875-934313444F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4992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22EA-78F2-41F0-AA36-542E954B1D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E580-DDFF-4878-81DE-150B2F3A25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322D-C884-4363-BEFD-FA3DD7731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B5BA-4E25-4837-A247-9EA16EBC4242}" type="slidenum">
              <a:t>17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kinds of composit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representations (Lev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efacts (Level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ity on the side of the patient (Lev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594800">
            <a:off x="515520" y="2924280"/>
            <a:ext cx="914400" cy="647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85000">
            <a:off x="2437920" y="3047760"/>
            <a:ext cx="1957680" cy="647640"/>
          </a:xfrm>
          <a:custGeom>
            <a:avLst/>
            <a:gdLst>
              <a:gd name="textAreaLeft" fmla="*/ 305640 w 1957680"/>
              <a:gd name="textAreaRight" fmla="*/ 1713240 w 19576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484800">
            <a:off x="6408360" y="5080680"/>
            <a:ext cx="1212840" cy="1086120"/>
          </a:xfrm>
          <a:custGeom>
            <a:avLst/>
            <a:gdLst>
              <a:gd name="textAreaLeft" fmla="*/ 189360 w 1212840"/>
              <a:gd name="textAreaRight" fmla="*/ 1061280 w 121284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C73E-1A1F-4DC5-8864-AA16ED1E7C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4508-7D17-40F3-98DB-4737E1CD42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al Model of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, OBO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GO – Functional Genomics Investigatio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I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dical Imag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2E72-853B-45AE-8034-8FAD0A46F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8D8E-A5E0-4EC6-8D3E-C9F98CDE84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48A6-C75D-4ABD-AF16-A2CC73091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BB53-C2F7-4ACF-8A77-76E98FFDFC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546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EC4C-BEE4-439C-888F-0711275FE5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, inventories: represent what is particular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instances (O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, terminologies, catalogs: represent what is general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ypes (O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B911-AE21-4DF9-86CA-2622C2AFD4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6649-A5EE-4899-A7DE-53160E3E62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CD80-A7BB-4F83-802D-AE66199887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ng” is not the name of a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7A22-3B15-4D9E-AEE5-28DA6CF43E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S Semantic Network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is_a B 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narrower in meaning than B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part_of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d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385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s one or more other physical uni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stand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4F9D-B867-4F6C-98C1-23328215CB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who think ontologies are representations of concepts make mistak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tal absent nipp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introduce or to remove other tube or instru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teri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rimental model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E4D9-2FF0-4E70-AB92-DF0EBE957A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ontology as a tool for biomedical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A38E-F12D-410F-A0C2-1B9A752E7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is a tool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do not describe the concepts in scientists’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cribe the types in reality, as a step towards finding ways to reason about (and treat) instances of the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6F48-51F2-4547-B72F-2C4401CB0A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inician has a cognitive representation which involves theoretical knowledge derived from text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25A3-693C-4E1F-AF87-D8952A28FB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representation of types in re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4038480"/>
            <a:ext cx="1828800" cy="3812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BDDC-EA2B-43F7-A65A-D087D9BB07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7E8D-EAA4-4704-8B5A-693FE9404F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 stand in similarity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ank and Bill are similar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umans, mammals, animals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, mammal and animal are types at different levels of gran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C890-AF5A-448A-9456-40A13813F6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88680" y="3390480"/>
            <a:ext cx="1597680" cy="1410840"/>
            <a:chOff x="688680" y="3390480"/>
            <a:chExt cx="1597680" cy="1410840"/>
          </a:xfrm>
        </p:grpSpPr>
        <p:sp>
          <p:nvSpPr>
            <p:cNvPr id="133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4"/>
              <a:endCxn id="135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68868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5028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135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5" idx="4"/>
              <a:endCxn id="140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43" idx="4"/>
            <a:endCxn id="144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145" name=""/>
          <p:cNvGrpSpPr/>
          <p:nvPr/>
        </p:nvGrpSpPr>
        <p:grpSpPr>
          <a:xfrm>
            <a:off x="5108400" y="572760"/>
            <a:ext cx="1749960" cy="1410840"/>
            <a:chOff x="5108400" y="572760"/>
            <a:chExt cx="1749960" cy="1410840"/>
          </a:xfrm>
        </p:grpSpPr>
        <p:cxnSp>
          <p:nvCxnSpPr>
            <p:cNvPr id="146" name=""/>
            <p:cNvCxnSpPr>
              <a:stCxn id="147" idx="4"/>
              <a:endCxn id="143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510840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143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0"/>
            <a:endCxn id="151" idx="1"/>
          </p:cNvCxnSpPr>
          <p:nvPr/>
        </p:nvCxnSpPr>
        <p:spPr>
          <a:xfrm>
            <a:off x="4789440" y="2171520"/>
            <a:ext cx="165024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55" name=""/>
          <p:cNvCxnSpPr>
            <a:stCxn id="144" idx="4"/>
            <a:endCxn id="152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158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425016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endCxn id="158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55022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33920" y="5410080"/>
            <a:ext cx="5181480" cy="838440"/>
            <a:chOff x="3733920" y="5410080"/>
            <a:chExt cx="5181480" cy="838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7339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5791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724280" y="5410080"/>
              <a:ext cx="83844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80773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6934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3480" y="2681280"/>
            <a:ext cx="1981440" cy="1281240"/>
            <a:chOff x="-33480" y="2681280"/>
            <a:chExt cx="1981440" cy="1281240"/>
          </a:xfrm>
        </p:grpSpPr>
        <p:sp>
          <p:nvSpPr>
            <p:cNvPr id="172" name=""/>
            <p:cNvSpPr/>
            <p:nvPr/>
          </p:nvSpPr>
          <p:spPr>
            <a:xfrm>
              <a:off x="609480" y="3048120"/>
              <a:ext cx="5922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33480" y="26812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f nod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E934-1F72-4E75-95A9-DCFDDC2B0D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ximal collection of particulars determined by a general term (‘cell’, ‘oophorectomy’ ‘VA Hospital’, ‘breast cancer patient in Buffalo VA Hospital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54F7-49B6-495D-B446-CFF4C569AB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defined by a general term which does not designate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. 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8C45-2D79-4BBF-A2FC-177A502225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resentational artifact whose representational units are natural language terms (with IDs, synonyms, comments, etc.) which are intended to designate defined clas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CC8D-4330-4B3D-8209-138595F36F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&lt; defined classes &lt; ‘concept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f those things which people like to call ‘concepts’ correspond to defin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 or other procedure not carried out because of patient's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930D-7793-430E-A858-D48BDF7761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 of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800" y="3900960"/>
            <a:ext cx="819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on consists in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entities in a give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, then, is an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information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7B3A-7A9E-4708-B5F0-3598D8D6C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_a HCFA Common Procedure Cod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086E-53D7-4839-830D-EB4A638E81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240B-676A-4C24-B433-3363C4E5B0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ft tissue tumor AND/OR sar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 differentiation or developm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ccidental submersion or drowning in water transport accident injuring other specifi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ture of other tendon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9D60-1B73-4827-A5D5-EDA591A4A6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needs to find uniform ways of representing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=def 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ypes in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ose relations between these types which obtain universally (= for all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D739-57DC-49A5-BD0E-6D6A631476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divis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9437-1028-484F-A17F-71DAABB9C7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lation between types is more problematic than is standardly sup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being has_part human test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is part_of human be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D58C-7980-4F43-9F2D-975FC43395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a relation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art_of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all instan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level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ome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testis part_of adult human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CF81-F320-4C1B-A5B3-90701C8CED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inds of par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inst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nucleus part_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AD9F-F5CC-499C-9901-CA0C565F56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PART OF SO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264D-D17A-4288-B9F5-20E28DE25C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for enduring entit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LL-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UCTURE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5E88-261D-467F-8CC0-DB8BE688B8C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1440" y="2666520"/>
            <a:ext cx="57150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5714-8427-4337-BA1E-73AABA187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art_of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 part_of C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-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definitions in the OBO-RO 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of i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withi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 betwee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i) between ontologies and EHR repositories of instance-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EE0C-51BC-4F55-BC8B-297FAE155F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is adjacent to this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ytoplasm is adjacent to this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yp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cleus adjacent_to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ytoplasm adjacent_to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42599" b="0"/>
          <a:stretch/>
        </p:blipFill>
        <p:spPr>
          <a:xfrm>
            <a:off x="7162920" y="2892600"/>
            <a:ext cx="1523880" cy="145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DBE7-28F2-4E41-B9A3-69BF60E848D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ymmetry e.g. for protein-protein interactions hmay hold only at the 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EE78-B622-43D3-87D2-A9C095AC67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O Relation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600200"/>
          <a:ext cx="7162920" cy="4842000"/>
        </p:xfrm>
        <a:graphic>
          <a:graphicData uri="http://schemas.openxmlformats.org/drawingml/2006/table">
            <a:tbl>
              <a:tblPr/>
              <a:tblGrid>
                <a:gridCol w="2527200"/>
                <a:gridCol w="463572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undational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_a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_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acent_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mpo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tion_of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s_from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ded_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participant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a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C05B-CEF0-48FB-9D69-52C39FF040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ED1E-1F96-46F6-A095-ED67A0EBAD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 = our knowledge and beliefs abou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 = formalizations of those idea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83AC-1789-4CA9-9016-A6793E21B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evels to Keep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: the reality on the side of the  organism (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2: cognitive representations of this reality on the part of clinic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3: publicly accessible concretisations of these cognitive representations in textual, graphical and digital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all interested primarily in 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FEDB-D255-465B-8F1D-A5D22F4FD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gnitive representations of clinicians or resear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embodied in their theoretical and practical knowledge of the reality on the side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C5EF-A267-4CD7-B3BC-798ED7EF6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4:58Z</dcterms:created>
  <dc:creator>phismith</dc:creator>
  <dc:description/>
  <dc:language>en-US</dc:language>
  <cp:lastModifiedBy>phismith</cp:lastModifiedBy>
  <dcterms:modified xsi:type="dcterms:W3CDTF">2006-03-03T05:37:15Z</dcterms:modified>
  <cp:revision>24</cp:revision>
  <dc:subject/>
  <dc:title>Slide 1</dc:title>
</cp:coreProperties>
</file>